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14182"/>
        <c:axId val="43170111"/>
      </c:barChart>
      <c:catAx>
        <c:axId val="429141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70111"/>
        <c:crosses val="autoZero"/>
        <c:auto val="1"/>
        <c:lblAlgn val="ctr"/>
        <c:lblOffset val="100"/>
        <c:noMultiLvlLbl val="0"/>
      </c:catAx>
      <c:valAx>
        <c:axId val="431701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141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42D6-AECB-4F69-90D1-8D437A4F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803-1802-44A8-B709-F88364D7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5DB-06F7-4FF5-89A6-C79D4E0E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8FE-BF5F-4B35-B2CA-006A9C19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EC6-0D8D-46A3-B856-18365E8D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5A9-9FAB-4D9E-8A2E-5AD55152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4DC-5BE3-49C4-8D3B-11614401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825-3D15-45C0-9453-DAEB24FE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1E6-0C49-4C7D-9391-7209FE78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FA9-5216-4B70-B9DB-1895EAFB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AC8-6271-4BDB-96B0-5BBBCC46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33D2-05A0-4A3F-B875-D125D02E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481F5-B55E-4E2F-B6B3-BE3929631C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