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708156"/>
        <c:axId val="68447641"/>
      </c:barChart>
      <c:catAx>
        <c:axId val="73708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47641"/>
        <c:crosses val="autoZero"/>
        <c:auto val="1"/>
        <c:lblAlgn val="ctr"/>
        <c:lblOffset val="100"/>
        <c:noMultiLvlLbl val="0"/>
      </c:catAx>
      <c:valAx>
        <c:axId val="68447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08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5D7-6C3D-496A-A578-9FC086DD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113-D03F-42A9-A3F1-FCB344F5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652-267E-472A-9878-C7059991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646-A145-4173-AB5C-E7B209EF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D06-4073-4EDF-8101-7DA23C27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00E-B939-40F9-82F6-70AC1297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243-C343-4C15-B7D3-FAC8A3C8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34E-F3DF-4929-B6A2-CE09D754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562-3688-4185-A700-D726D8F1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649-770D-4703-A7B1-2F25710C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B51-2C79-4F96-AF8C-EFD5FA17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416-3EA8-4880-908A-693B6ECF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79AFE-053A-4F56-B7F2-DA05099B0E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