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66724"/>
        <c:axId val="38033401"/>
      </c:barChart>
      <c:catAx>
        <c:axId val="16566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3401"/>
        <c:crosses val="autoZero"/>
        <c:auto val="1"/>
        <c:lblAlgn val="ctr"/>
        <c:lblOffset val="100"/>
        <c:noMultiLvlLbl val="0"/>
      </c:catAx>
      <c:valAx>
        <c:axId val="38033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6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7DA-AB09-47F2-B131-F06836BC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AD8-956C-4717-991F-CB78B8FE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32C-F353-4964-9EE1-5977E104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1B6-BEE4-4723-8D5D-478EF24C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BAB-C8A1-405B-AF49-79251A8D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CB5-EF77-44A9-8A7F-6270D7F8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CF0-635C-499F-8067-C168B6C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BE6-AA6B-428C-A30D-53CF836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B0F-7337-44CE-88CF-0A105746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CEC-9020-4F97-89A3-A50E5A0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862-36C0-4354-B7CB-A3A9FB0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A4B-797E-4174-96EF-F09501C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CE825-8D0C-4952-AB97-5FBAB1775A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