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327"/>
        <c:axId val="2847193"/>
      </c:barChart>
      <c:catAx>
        <c:axId val="2678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7193"/>
        <c:crosses val="autoZero"/>
        <c:auto val="1"/>
        <c:lblAlgn val="ctr"/>
        <c:lblOffset val="100"/>
        <c:noMultiLvlLbl val="0"/>
      </c:catAx>
      <c:valAx>
        <c:axId val="2847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97B-89BE-47FA-BB8F-A370F9FC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C38-8BCF-4A77-B6DC-56DDD831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B0C-9F2B-470B-A80A-CEADBF5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3DB-3CF8-4909-9E51-8790B1B0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718-24ED-4917-8A57-C829350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EAD-9F80-4758-9BB8-2E2FFDC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E69-ED51-4890-91EE-DB7A913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221-36F8-4FFD-BF8A-5E621E0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5E0-CB2D-451F-BFBB-DE7E5A7F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11F-5C20-46CB-A7D5-F07E897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F7A-C8F9-4D06-8A40-A8E1717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576-8932-48A0-A392-7C0D3506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13917-A82E-4062-ACE4-87C21E3E7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