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8935"/>
        <c:axId val="89799888"/>
      </c:barChart>
      <c:catAx>
        <c:axId val="5018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99888"/>
        <c:crosses val="autoZero"/>
        <c:auto val="1"/>
        <c:lblAlgn val="ctr"/>
        <c:lblOffset val="100"/>
        <c:noMultiLvlLbl val="0"/>
      </c:catAx>
      <c:valAx>
        <c:axId val="897998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8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0FA-DB23-4E19-AE54-5818826E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A8C-ADFA-461A-930D-9A9B9C2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4F6-9DFC-4221-80F8-C45B6932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A70-A49C-44BB-8FFC-31579565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C59-27B9-46AF-9164-5852085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8CB-31AA-4F37-B0A7-8731A6DE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029-6175-43ED-B76B-556DED65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220-5340-4565-837B-C573F294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45D-75C9-49F2-AB03-E63DA9B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046-F90B-4229-BD42-3B868F2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936-BCF5-4D25-B673-7BABA54C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541-EA39-4834-928A-E580523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9C5F9-6587-4BD4-8209-DD7C1F2E4E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