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1526577"/>
        <c:axId val="99411913"/>
      </c:barChart>
      <c:catAx>
        <c:axId val="1152657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411913"/>
        <c:crosses val="autoZero"/>
        <c:auto val="1"/>
        <c:lblAlgn val="ctr"/>
        <c:lblOffset val="100"/>
        <c:noMultiLvlLbl val="0"/>
      </c:catAx>
      <c:valAx>
        <c:axId val="9941191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52657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C49B8-9E58-4C64-B6D7-457380AA6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44995-F88F-4103-A885-B2011D28F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0A080-17F2-4D5D-AE71-B3F028098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BA7AA-85F1-4522-B9DC-7BF6424EF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258EB-8965-4505-BC76-A8BB5ABAB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B213E-F95A-45C3-BF16-4E3C7F40D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87FB0-336C-4652-A3DB-CEA4D1080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622D5-0BBB-48FF-AD3C-923EC5E4B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A8451-D18F-44DA-A114-6F9D175F8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905A8-A207-4F4D-B936-CCD86385A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EB645-8177-4D64-AC92-6DE7581F9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F412D-D36D-4212-B4DF-94F0D94E7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CEFDA0-0AF9-4710-B4F4-12C5C237C51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