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860196"/>
        <c:axId val="45046834"/>
      </c:barChart>
      <c:catAx>
        <c:axId val="608601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46834"/>
        <c:crosses val="autoZero"/>
        <c:auto val="1"/>
        <c:lblAlgn val="ctr"/>
        <c:lblOffset val="100"/>
        <c:noMultiLvlLbl val="0"/>
      </c:catAx>
      <c:valAx>
        <c:axId val="450468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8601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7479-5AED-45F6-B360-3735DE74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1E3B-A012-4681-B60F-1CE54D3F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0E61-A7FB-45C5-8636-55F47356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A3C2-0AD8-4A8E-99A3-772EE324C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F669-180B-4BBD-889C-FF5188B5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28B0-17B1-4255-9ADF-F1D6D987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5BF4-0CBE-4B86-9798-02B2FA99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1887-D5B0-47FE-9A80-1BC19AEF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39BE-FA25-4B19-A04C-4FD98C47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B645-9775-4A0B-8653-F256AE9D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8BCE-41EE-4490-95DC-822A85FB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7C74-F245-478D-959B-809AFEE1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DEF24-A023-4568-8A4B-A4BC1A2DA2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