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8049"/>
        <c:axId val="6126804"/>
      </c:barChart>
      <c:catAx>
        <c:axId val="35880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6804"/>
        <c:crosses val="autoZero"/>
        <c:auto val="1"/>
        <c:lblAlgn val="ctr"/>
        <c:lblOffset val="100"/>
        <c:noMultiLvlLbl val="0"/>
      </c:catAx>
      <c:valAx>
        <c:axId val="6126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80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19E-11D0-4D6A-B99F-C6D97252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A45-F74E-4D4C-A18B-916E2886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E4D-0228-430A-8EE0-32656530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971-ECAD-4D32-B180-186B9FAF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DD3D-A231-4C97-8C69-A9B4812D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2786-F7D5-48E2-B9D2-1D69BA4F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9B42-BC50-4A53-B0FE-5324B6C9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6FD7-15C8-44C5-B7AC-2D7260B8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B1F-971A-4E9E-87BC-5D2DB895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936-380A-4D3B-821D-45B5B526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6DA-7955-4BF0-9892-423E371D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B605-6782-44AB-8248-24ADBA30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71D75-B290-449F-A9E0-62AA2B22DA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