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75498"/>
        <c:axId val="83143849"/>
      </c:barChart>
      <c:catAx>
        <c:axId val="77075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43849"/>
        <c:crosses val="autoZero"/>
        <c:auto val="1"/>
        <c:lblAlgn val="ctr"/>
        <c:lblOffset val="100"/>
        <c:noMultiLvlLbl val="0"/>
      </c:catAx>
      <c:valAx>
        <c:axId val="83143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5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F21-00D1-4632-BF8D-DC601F9D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2AD-9F3E-4BB5-A268-B03069F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797-847A-4EB3-82EC-CB5CCF8A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0A2-2104-4AFE-8320-B38FDC3B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E58-BE23-450F-8907-A840A709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183-3491-4347-9933-F7C1338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7B2-4DA3-4EAB-889C-64B3802E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1CC-8AC8-4414-A2AD-B67A8AC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E97-0E03-45CF-BDF1-89371C1C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2D9-3D03-45BA-BE06-A9F9788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6DA-1137-48F2-AD7E-C63728A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B69-AB38-4762-A962-DD7A264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94965-3969-4BED-B1A9-70003E467D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