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93765"/>
        <c:axId val="42798542"/>
      </c:barChart>
      <c:catAx>
        <c:axId val="69993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98542"/>
        <c:crosses val="autoZero"/>
        <c:auto val="1"/>
        <c:lblAlgn val="ctr"/>
        <c:lblOffset val="100"/>
        <c:noMultiLvlLbl val="0"/>
      </c:catAx>
      <c:valAx>
        <c:axId val="42798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93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90FA-4AA4-4185-9983-717DB209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D45-09D2-4952-AA8C-47930670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0B2-7B88-417A-AECE-86D4E7E6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C09-FC1B-488E-8E03-D37DCE018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BA63-5A7D-458F-8895-B9F94461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D78-087E-482D-9C0F-C741EC3F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91A-B263-4C0C-957C-DAE5308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053-A0A9-43B1-AB97-5D3521C6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4F03-3A92-44DE-9AC3-DD42187C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613-C5A6-453D-A173-EFAFDCD9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D17-5EB1-4C9B-A10B-8DCF6EFF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B680-FFB7-4411-B7AA-EC2E1210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0710B-6301-4BB4-9E40-0F8F6B5C9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