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989944"/>
        <c:axId val="26589725"/>
      </c:barChart>
      <c:catAx>
        <c:axId val="849899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89725"/>
        <c:crosses val="autoZero"/>
        <c:auto val="1"/>
        <c:lblAlgn val="ctr"/>
        <c:lblOffset val="100"/>
        <c:noMultiLvlLbl val="0"/>
      </c:catAx>
      <c:valAx>
        <c:axId val="26589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899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011-677D-4F9C-AA2B-4791B98E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EE8-B046-4E0D-9ED1-1A6C44EC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E4C-96EC-495E-9FE3-B5C8D1D1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772-49AC-44CB-AC18-6A320317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CA3F-68E7-455D-982F-37B0B6FC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566C-174F-4EE9-A510-4380FD34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35C-9A3F-4A3C-8C6D-90E6B00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DB1-5658-4175-B2C7-1B991829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CCCB-AAC8-4E33-A475-4345998A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5DC-6B8F-42C0-B0D3-882DAF86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DDE-7B6E-4E9B-854C-2C7A12C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049-2C8E-4099-9F15-3CB2AB2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BC881-7018-4675-B18A-48E958A3E2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