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1986"/>
        <c:axId val="18914144"/>
      </c:barChart>
      <c:catAx>
        <c:axId val="5281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14144"/>
        <c:crosses val="autoZero"/>
        <c:auto val="1"/>
        <c:lblAlgn val="ctr"/>
        <c:lblOffset val="100"/>
        <c:noMultiLvlLbl val="0"/>
      </c:catAx>
      <c:valAx>
        <c:axId val="18914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1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C52-F5CB-4A4A-928E-7D9A93AE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D9A-067E-47D0-8506-1C345999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3F7-1DD1-416E-BEF3-F8C775DF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258-DA25-4FBC-9F4D-2EA3E781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AE6-C8AB-49CA-B38F-3A3063F0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79C-5604-413C-9DC5-FDC81964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B2D-5A3A-45FA-A225-529448F8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375-17CC-4D57-8A64-004D10B0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83B-ABE9-4DDA-B415-CC9EAD62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930-710D-4742-9D29-1B3D4951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3F1-4D1D-433E-90C1-87915D23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EF0-AEE5-452F-BA66-0C1FE5B4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9EC9B-7FF4-4C69-A079-567921317F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