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900716"/>
        <c:axId val="20942997"/>
      </c:barChart>
      <c:catAx>
        <c:axId val="909007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942997"/>
        <c:crosses val="autoZero"/>
        <c:auto val="1"/>
        <c:lblAlgn val="ctr"/>
        <c:lblOffset val="100"/>
        <c:noMultiLvlLbl val="0"/>
      </c:catAx>
      <c:valAx>
        <c:axId val="209429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9007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5E7A-AE60-4E55-B0B8-893B084644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BD3F-5C34-410C-99FA-F8E94164C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198A-4F0B-4DE8-9F51-957D74E8E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1337-23B5-42C6-9210-DBCDC71B0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C2D1A-FF1B-4D06-BCA1-A90A1B8CF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3E58-AD17-49EA-BD7D-8AABA9ADF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1DCDE-9B85-414E-B251-CB5C4729D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EC6C-E022-4FE6-8C64-3E17A6B65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69F7-582F-459E-A223-55859C9DC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A92A-EC1E-45CB-BA5A-3A7DEDA2E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4FAC-EEA9-410E-8696-66E63EA19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5084-9C66-43C4-8F7E-F73BBAD0B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B480A5-2E9F-459D-AE9A-8C1315B708F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