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0489"/>
        <c:axId val="5245561"/>
      </c:barChart>
      <c:catAx>
        <c:axId val="3740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5561"/>
        <c:crosses val="autoZero"/>
        <c:auto val="1"/>
        <c:lblAlgn val="ctr"/>
        <c:lblOffset val="100"/>
        <c:noMultiLvlLbl val="0"/>
      </c:catAx>
      <c:valAx>
        <c:axId val="5245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0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5AD-171A-4495-A9C7-30FCAC0F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0BB-BA78-4400-BAE3-ABF43563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F89-6573-44E1-8918-F3AE1854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072-3376-42B2-B862-DCF8CAE8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EF5-B1EA-42F0-99AB-B6279AED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1A5-7D9F-4EE1-8FC2-0CE162FD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17A-971B-4501-8B55-708CF024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A136-ECD4-4CFF-9502-E16CA9E1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363-0919-49A9-9CBC-07C1F6B6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9D6-BA9E-4375-8C1A-ABFA515C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0E2-26D7-4772-A407-85E45CBA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63E-EA48-4F52-AA1C-592970E2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F8B23-2073-4D55-80F5-6175F0164B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