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02423"/>
        <c:axId val="74962066"/>
      </c:barChart>
      <c:catAx>
        <c:axId val="99902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2066"/>
        <c:crosses val="autoZero"/>
        <c:auto val="1"/>
        <c:lblAlgn val="ctr"/>
        <c:lblOffset val="100"/>
        <c:noMultiLvlLbl val="0"/>
      </c:catAx>
      <c:valAx>
        <c:axId val="74962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2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96E-6791-4530-89E5-29FA248A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57F-09D1-4A28-B562-709A6CB1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B21-05B8-46CB-82F9-BB5CBE5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D31-0340-4949-8A98-13E910AA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E6C-5405-4100-A09B-6077F2D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EE6-0F89-4D38-ACE1-952B5F17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C14-0FF0-424B-B067-F0AE8696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34C-0A51-40F3-9203-03C5DEB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FB8-6FBC-48FD-A743-A69217C7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EA0-C582-4396-A0E4-439398F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1D0-DDA3-4746-A67F-581DDE7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B48-512D-4B84-9FFC-50D04AE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07347-B45F-4D4A-B0E4-BB49E821A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